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1BE1-DFCE-4B0D-9609-046FBC7CF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CD3-A52D-4FAC-AE0D-4A012915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7A6D-F495-46AF-AE5A-DEFC7E54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7D31-2B63-4FA1-AC1A-F71011C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3F8A-096C-47AC-93BA-75A81533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65C6-9201-4F08-B222-FC4C8772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75DB-BB67-4369-B2EA-A195F07C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437B-781F-4242-8394-724C7153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E34-C4DE-40D4-878E-20792DA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B3EA-57F6-4D53-8CA5-62539A4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5347-BA4C-46E7-B9AD-6A2B188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242-424D-4E38-9667-B4D70702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D3D-E36A-4B2C-A604-C7C19A3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4C32-CC1A-41F6-879E-C89E505C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BF4F-AA67-4181-B7F8-65D2D16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1874-F14D-4C7A-B6AA-3DE5FC0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C8E-42D5-400D-8345-82A5BD22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472-19CB-434D-9D92-F1CBD9CB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517C-1B77-4560-8D37-661E130B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5953-4790-4293-BA34-6AB05DE7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AAE0-F41F-497F-A086-40DA2B19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004A-348A-4E09-AE85-E98B877D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7FBF-39C8-4592-A344-3AD1ECFD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F441-8043-4840-8A94-91FC5DD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4CB9-974E-420C-835B-F15A1DA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AB65-6F6B-4584-9C9D-F3759E5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DCBA-F396-4C81-A976-A674EF9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6DD8-C2B6-4E14-B7CF-19AF346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AD0B-400F-4E5C-9A84-A06BB71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80D8-10CC-4776-901E-A06C2C9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3063-A47F-4055-B799-2CD700E6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B8D9-03F5-4752-97B5-8C4933DA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4B585-69AB-4CCA-AA2C-A5B776A7DE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4EEE1-35EC-4C6E-9FE2-D683991359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5D7DB-43AD-461F-A77F-FCD015BF8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B17E-8A25-42FB-9F49-B017335E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BC44C-D4F1-4C98-A6ED-8DCC20528B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514D6-B2EC-4337-B0FC-AAD3F30839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173FE-AB7A-41F8-9F7F-3C258C4818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A100F-2C71-49AC-9A38-FAABF890DE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9F917-0F96-42ED-9D60-723B75F460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F94C6-898E-46B8-A4DD-3773AB3B03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58BEF-E54B-451F-B6AE-68F1C37E62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77245-2728-47D1-8482-49660049EC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74731-A90F-40EB-B298-F0CC964F95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16DC-37BA-456F-A466-23BC48D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31E5-7529-4170-85E2-7B442E7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0BF7-65E0-406D-ACE8-DCE0543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663E-28DC-434F-8AEF-2AFE9EB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A815-9130-483F-B0BF-89CC963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ECB-5214-4A4F-BD05-74BBB9A8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F70-AACC-42C4-8D3A-9E9CE223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641-4B29-43E3-A2B1-92797CD0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34B8-6B21-46A2-B018-C99292A7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41B-C035-45E9-B18A-4D68CCE16548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79D-0BB2-4B06-87E0-494572BD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September 12,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3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Vice Chair: Steven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27CD-2250-4772-B020-8628C25E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534520" cy="3986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9"/>
          <p:cNvSpPr/>
          <p:nvPr/>
        </p:nvSpPr>
        <p:spPr>
          <a:xfrm>
            <a:off x="457200" y="571644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date September 30,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457200" y="116064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Discussion on Annual Validation Needs and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474-F696-4CDB-8E75-ABE15038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457200" y="1295280"/>
            <a:ext cx="81532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R/AMS BUSLRG Updates from TDS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 and Oncor remaining BUSIDRRQ counts are largely EPS meters and unique customer equipment related issues delaying BUSLRG con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 recent BUSLRG conversion is reflective in counts below.  Approx 800 will remain on BUSIDR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NMP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8600" y="3465360"/>
            <a:ext cx="86868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F6B-F42C-41A7-9C7C-8A075F58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80880" y="1066680"/>
            <a:ext cx="8610840" cy="41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October 13, 2023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otential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 Annual Valid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1"/>
          <p:cNvSpPr/>
          <p:nvPr/>
        </p:nvSpPr>
        <p:spPr>
          <a:xfrm>
            <a:off x="228600" y="2570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3-09-08T20:13:02Z</dcterms:modified>
  <cp:revision>1435</cp:revision>
  <dc:subject/>
  <dc:title>Instructions</dc:title>
</cp:coreProperties>
</file>